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2198-61A9-4F5D-BC25-0FEC2EFEC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0889-1554-41B6-9B44-EF562133D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8A3A-205A-4535-B763-4F66B42EB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2D5F-EB17-4D85-BBB4-1628AEFA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341B-0C71-44B9-AED5-FCF41CB67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0968-CA0E-403D-8567-87B3137F2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65D0-3515-4FCD-9050-D528206AC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6056-0981-4108-AB5C-B9A7EFC5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5D82-6A18-49DD-8A02-10440CBC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D932-0A17-43C3-A7C1-059FC9F9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BD49-83BC-411D-8E3C-DA194041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3DCD-521B-4758-AF74-C63E2DAE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A5C7-C65B-4A7E-A625-DE8D0340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906A-ABD8-4063-9D3E-46B4CD68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D551-76AE-4233-97E9-1CFE5664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C72B-F9FC-45FF-A6A4-CF1EC5EA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56F5-8248-4C80-A5B4-C34F04BC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8064-3F15-4085-833C-E54ACBAB5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A498-7115-44E0-BA96-8EED1BA3B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B9798-AE90-4A1B-B10C-9EC112D8F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60CA1-AC34-4914-813D-E6DD927B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C1FF2-10CA-4F5B-A425-297E7F42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4B3D8-BFD7-4384-9B1C-9B45DBBF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3E511-4ED9-4F97-9709-219B4AF1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00BA-1A7E-444F-AFFD-791A75F9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B6421-1286-40F5-8231-23FAEAF8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FBFD7-2B56-4A09-83E2-9D52854D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1A008-DC92-4F6E-B82E-0892F8CF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12D7E-578F-478C-9F11-6D9C0972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010BA-047A-4120-9734-44DA2395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EFDBE-26EC-410C-BC80-3086FFA6A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B7654-9933-440D-A088-9C54EEDD5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9BB3E-5DB9-4857-9B74-E75DAF182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4BDE7-9184-4674-A08D-8441A2B5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BA13B-7FCC-4642-876B-1C870510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6422-6627-4343-82E5-61A7D0B9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F898B-7761-4F1B-85B2-C02CCFFD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974FB-98EB-4FCF-A3C4-781C43EE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367FA-E2D3-4EB5-9E8C-E04297BF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B3976-AC0B-406A-8431-8F70E9DF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F8A54-853C-42FD-9104-DB9DFAA4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91548-A95F-4C9F-A4B4-A6475A97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53328-B757-42BF-AEED-A2C5F127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EA698-85CD-44D7-8D35-865AA648F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EE3EF-8383-4FB0-832B-C0824FE75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185B7-9573-4767-A8D5-C328F3FCC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86E1-2CFB-4694-9F09-E769BA0F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80A03-5639-4331-BBE8-5E400638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E1F91-93C1-42B2-A537-A7E97E8F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37C4A-8FA8-4B12-BC16-5DF5249D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52601-E3D4-4B17-AA9C-A22D8919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5A0C7-16AA-40C4-8265-1925849F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96735-5C41-4694-A558-751106E3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6375F-3C2E-45AF-ACFA-B9FC5084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B52C3-E631-4CFB-A0FB-46CDC108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A5255-6EAC-4741-9009-6CC83B86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9E040-7D9C-4E08-860D-5EA1D5A3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AD71-2782-49C7-BBC5-D5AA2634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56EA0-D15A-4DB9-96C9-532341F8C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A2224-A57F-4140-88B8-D4A03CE47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8343E-8BF8-4EDB-B717-B99FE808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4E022-EC60-4E7B-88A9-4C41DFF0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8F820-C581-442B-9328-46DBF56B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23315-412A-49CC-AE76-5698A9B0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BBF34-2DD9-49C1-9A0E-8D8482FD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14BCA-CC64-4E96-9B5E-4D363716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6BE79-0CBE-4D06-9FFF-4D88B67F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9B04C-867C-4A78-A2CC-F2B5F226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BAA4-452A-4843-918D-A5C11060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037B4-9411-4ED1-B482-FBE7DBFE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E48F0-CBBB-41D8-AA12-C05FEF983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3A399-78E8-447A-9D4C-F09AD0AE1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D9D4-CAC3-49BA-8FA0-E226EF57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118F-B74E-4CCD-BB5E-BB8B603D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7C61-FBE6-4D91-9CD2-43E6D86482A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BFAF-6F97-49CB-889E-168982E2404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3868-38C2-451E-B18F-543C9251D99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9254-6C59-4309-8D87-5ED4432C48B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7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8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1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58F7-ABA5-4F57-9394-43EC17DB168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7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8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1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4EF2-5267-43D8-9171-AEA15DC2DD6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5334120" cy="190188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лекуларна генетика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рада проблемских задатака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188640"/>
            <a:ext cx="876312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Arial"/>
                <a:ea typeface="Arial"/>
              </a:rPr>
              <a:t>ДНК</a:t>
            </a:r>
            <a:r>
              <a:rPr b="0" lang="sr-CS" sz="2800" spc="-1" strike="noStrike">
                <a:solidFill>
                  <a:srgbClr val="04617b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олекул се састоји из два полинуклеотидна ланца комплементарне грађе који се спирално увијају један око другог и који с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везани водоничним везам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4" name="Picture 7" descr="dna-klasika"/>
          <p:cNvPicPr/>
          <p:nvPr/>
        </p:nvPicPr>
        <p:blipFill>
          <a:blip r:embed="rId1"/>
          <a:stretch/>
        </p:blipFill>
        <p:spPr>
          <a:xfrm>
            <a:off x="2743200" y="2200320"/>
            <a:ext cx="359568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c00000"/>
                </a:solidFill>
                <a:latin typeface="Arial"/>
                <a:ea typeface="Arial"/>
              </a:rPr>
              <a:t>Дезоксирибонуклеотид</a:t>
            </a:r>
            <a:r>
              <a:rPr b="0" lang="sr-CS" sz="3200" spc="-1" strike="noStrike">
                <a:solidFill>
                  <a:srgbClr val="04617b"/>
                </a:solidFill>
                <a:latin typeface="Arial"/>
                <a:ea typeface="Arial"/>
              </a:rPr>
              <a:t> –</a:t>
            </a:r>
            <a:br>
              <a:rPr sz="3200"/>
            </a:br>
            <a:r>
              <a:rPr b="0" lang="sr-CS" sz="3200" spc="-1" strike="noStrike">
                <a:solidFill>
                  <a:srgbClr val="04617b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јединица грађе ДНК ланц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42920" y="227664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Састоји се од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ентозног шећера – дезоксирибоз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фосфорне  груп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азотне баз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7" name="Picture 6" descr="nucleotid"/>
          <p:cNvPicPr/>
          <p:nvPr/>
        </p:nvPicPr>
        <p:blipFill>
          <a:blip r:embed="rId1"/>
          <a:stretch/>
        </p:blipFill>
        <p:spPr>
          <a:xfrm>
            <a:off x="5000760" y="2143080"/>
            <a:ext cx="35002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c00000"/>
                </a:solidFill>
                <a:latin typeface="Arial"/>
                <a:ea typeface="Arial"/>
              </a:rPr>
              <a:t>Азотне баз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1295280"/>
            <a:ext cx="3672000" cy="198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уринск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600" spc="-1" strike="noStrike">
                <a:solidFill>
                  <a:srgbClr val="c00000"/>
                </a:solidFill>
                <a:latin typeface="Arial"/>
                <a:ea typeface="Arial"/>
              </a:rPr>
              <a:t>- аденин (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0" lang="sr-CS" sz="2600" spc="-1" strike="noStrike">
                <a:solidFill>
                  <a:srgbClr val="c00000"/>
                </a:solidFill>
                <a:latin typeface="Arial"/>
                <a:ea typeface="Arial"/>
              </a:rPr>
              <a:t>- гуанин (</a:t>
            </a:r>
            <a:r>
              <a:rPr b="0" lang="en-US" sz="2600" spc="-1" strike="noStrike">
                <a:solidFill>
                  <a:srgbClr val="c00000"/>
                </a:solidFill>
                <a:latin typeface="Arial"/>
                <a:ea typeface="Arial"/>
              </a:rPr>
              <a:t>G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3505320"/>
            <a:ext cx="8459640" cy="17524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anchor="t">
            <a:normAutofit fontScale="61000"/>
          </a:bodyPr>
          <a:p>
            <a:pPr marL="166320" indent="-1663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Шаргафово правило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sr-CS" sz="2600" spc="-1" strike="noStrike">
                <a:solidFill>
                  <a:srgbClr val="c00000"/>
                </a:solidFill>
                <a:latin typeface="Arial"/>
                <a:ea typeface="Arial"/>
              </a:rPr>
              <a:t>аденин се увек везује за тимин (А = Т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0" lang="sr-CS" sz="2600" spc="-1" strike="noStrike">
                <a:solidFill>
                  <a:srgbClr val="c00000"/>
                </a:solidFill>
                <a:latin typeface="Arial"/>
                <a:ea typeface="Arial"/>
              </a:rPr>
              <a:t>- гуанин се увек везује за цитозин (</a:t>
            </a:r>
            <a:r>
              <a:rPr b="0" lang="en-US" sz="2600" spc="-1" strike="noStrike">
                <a:solidFill>
                  <a:srgbClr val="c00000"/>
                </a:solidFill>
                <a:latin typeface="Arial"/>
                <a:ea typeface="Arial"/>
              </a:rPr>
              <a:t>G</a:t>
            </a:r>
            <a:r>
              <a:rPr b="0" lang="sr-CS" sz="26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c00000"/>
                </a:solidFill>
                <a:latin typeface="Arial"/>
                <a:ea typeface="Arial"/>
              </a:rPr>
              <a:t>≡</a:t>
            </a:r>
            <a:r>
              <a:rPr b="0" lang="sr-CS" sz="2600" spc="-1" strike="noStrike">
                <a:solidFill>
                  <a:srgbClr val="c00000"/>
                </a:solidFill>
                <a:latin typeface="Arial"/>
                <a:ea typeface="Arial"/>
              </a:rPr>
              <a:t> С</a:t>
            </a:r>
            <a:r>
              <a:rPr b="0" lang="en-US" sz="2600" spc="-1" strike="noStrike">
                <a:solidFill>
                  <a:srgbClr val="c00000"/>
                </a:solidFill>
                <a:latin typeface="Arial"/>
                <a:ea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Суседни нуклеотиди су у ланцу повезани фосфодиестарским везама, а наспрамни нуклеотиди  водоничним везама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76920" y="1218960"/>
            <a:ext cx="3695760" cy="2089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иримидинск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sr-CS" sz="2600" spc="-1" strike="noStrike">
                <a:solidFill>
                  <a:srgbClr val="c00000"/>
                </a:solidFill>
                <a:latin typeface="Arial"/>
                <a:ea typeface="Arial"/>
              </a:rPr>
              <a:t>тимин</a:t>
            </a:r>
            <a:r>
              <a:rPr b="0" lang="en-US" sz="2600" spc="-1" strike="noStrike">
                <a:solidFill>
                  <a:srgbClr val="c00000"/>
                </a:solidFill>
                <a:latin typeface="Arial"/>
                <a:ea typeface="Arial"/>
              </a:rPr>
              <a:t> (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0" lang="sr-CS" sz="2600" spc="-1" strike="noStrike">
                <a:solidFill>
                  <a:srgbClr val="c00000"/>
                </a:solidFill>
                <a:latin typeface="Arial"/>
                <a:ea typeface="Arial"/>
              </a:rPr>
              <a:t>- цитозин</a:t>
            </a:r>
            <a:r>
              <a:rPr b="0" lang="en-US" sz="2600" spc="-1" strike="noStrike">
                <a:solidFill>
                  <a:srgbClr val="c00000"/>
                </a:solidFill>
                <a:latin typeface="Arial"/>
                <a:ea typeface="Arial"/>
              </a:rPr>
              <a:t> (C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10666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Израда проблемских задатака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66680" y="2895480"/>
            <a:ext cx="23623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3.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Text Placeholder 3"/>
          <p:cNvSpPr/>
          <p:nvPr/>
        </p:nvSpPr>
        <p:spPr>
          <a:xfrm>
            <a:off x="3657600" y="2895480"/>
            <a:ext cx="23623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3.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3.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3.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Placeholder 3"/>
          <p:cNvSpPr/>
          <p:nvPr/>
        </p:nvSpPr>
        <p:spPr>
          <a:xfrm>
            <a:off x="6172200" y="2895480"/>
            <a:ext cx="23623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3.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3.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3.1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2T07:04:23Z</dcterms:created>
  <dc:creator>prodekan 01</dc:creator>
  <dc:description/>
  <dc:language>en-US</dc:language>
  <cp:lastModifiedBy>Korisnik</cp:lastModifiedBy>
  <dcterms:modified xsi:type="dcterms:W3CDTF">2021-01-28T07:24:10Z</dcterms:modified>
  <cp:revision>145</cp:revision>
  <dc:subject/>
  <dc:title>NUKLEINSKE KISELINE</dc:title>
</cp:coreProperties>
</file>