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456-B70C-4EEC-8047-BC510926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2BF-A44D-4A66-813F-94503B2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ABF-DE7D-4FD2-A6B0-C94B4F53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F98-23AF-4B61-B8C8-82FC35E8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0A44-F61F-4B6C-BFDB-5730D6E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77D-83D4-4F7A-B461-422B84F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A551-4915-473D-98FC-19CF2E8E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AF03-9A71-4925-B4A0-E35BD74D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1E3E-AC92-4D7F-9576-2451012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AC61-61FD-44BB-9085-78A4380C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413E-B660-4784-9C3E-74901CB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C55-3E6A-4B58-9D55-C6F38B7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27A2-933C-4AEA-8214-D079C97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117-8336-43D5-BEE6-7BD3B5E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224D-31DA-47B5-9620-03519C6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B240-BB76-4B60-A2B5-DC70D1E6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6B3E-A4BF-4E35-B0C9-23CC67D2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A586-19EF-4F70-AE76-F9319716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AB80-11A9-4FFE-A71D-EB58795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9E1F-B408-435D-8F86-A32CA67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8525-2D0A-41F4-AD3F-5D1DB508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BA4D-D7DE-49B1-851B-9A59E10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4C0-02D5-445F-82A7-7B7D61B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9554-FCD9-4733-B8B7-16AADF3F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D99B-695D-4CEC-B54A-1EE63EA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8E4E-6AF0-43F0-A932-CB8BDF0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5F1F-369D-4467-9E8C-E69AE47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87E0-5268-49EF-BF14-24654AF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EB92-965A-40C1-AD0E-1FB96A37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20D8-1465-4746-9F69-1CD422F5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F8C9-E7A5-485B-93EF-6DFA50A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B26B5-E17B-4FA1-812A-83419CB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50CD-EEC0-4481-8D5E-1E327596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EBD-94A7-4626-B4E3-0325AAB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42BC-B9CA-491C-BDB6-60DD2C6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EFDD-98D2-4A85-A6DE-92D3202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B909-6548-4ED6-9EA5-FBA5AEE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21B2-A3F3-429D-99E8-D29FEAE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C4B9-8DF1-4205-9BBF-366FFB74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FCBA-38DF-47AF-9668-9DAF317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BB97-4B3B-4116-850C-F98215A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2FCF-0AA6-4988-86F4-B046A41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89D8-1EC2-45FB-97C5-F6F00043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E4B1-5907-48DD-9F0A-DAC7F7B1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FCB-05D5-4D79-911D-455A453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937B-5FAA-40E1-848D-09F3D668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529B-BF3A-41BC-8148-D7AB6A60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7FB8-6932-490D-B165-C971472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4447-D219-4ED9-BEB0-3AAF95DE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0934-24BA-4DFD-A28C-A3909E9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5AF9-3325-481C-8ECB-330B379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6CC3-91F1-4865-AF73-FAF65D2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5F1B-E144-414A-8BB0-84865C4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5EB4-351C-404C-B7D3-57FD5E0F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E4E3-1B37-4431-BD93-0A3A2D3E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917-835B-438E-BECC-75054DD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A391-CA8F-44DC-9DE3-10970D7C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432-E04D-489F-8691-A051483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111-8327-47A6-9CB5-2E181ABF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057-8395-4F86-A3DB-F07FF91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404-7E75-4465-8FA9-A7C87DAC64C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226-F722-48FB-9651-38F71E6F29A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28B-5DE5-4397-B9FD-025CADA4916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1CA-1ABC-4EE7-8D04-10C465B6BD3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80C5-5E56-43EB-B745-C13C9737D5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1752120"/>
            <a:ext cx="9144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Arial"/>
                <a:ea typeface="Arial"/>
              </a:rPr>
              <a:t>2</a:t>
            </a:r>
            <a:r>
              <a:rPr b="1" lang="en-US" sz="5100" spc="-1" strike="noStrike">
                <a:solidFill>
                  <a:srgbClr val="0d0d0d"/>
                </a:solidFill>
                <a:latin typeface="Arial"/>
                <a:ea typeface="Arial"/>
              </a:rPr>
              <a:t>. </a:t>
            </a:r>
            <a:r>
              <a:rPr b="1" lang="sr-CS" sz="5100" spc="-1" strike="noStrike">
                <a:solidFill>
                  <a:srgbClr val="0d0d0d"/>
                </a:solidFill>
                <a:latin typeface="Arial"/>
                <a:ea typeface="Arial"/>
              </a:rPr>
              <a:t>НУКЛЕИНСКЕ КИСЕЛИНЕ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100" spc="-1" strike="noStrike">
                <a:solidFill>
                  <a:srgbClr val="0d0d0d"/>
                </a:solidFill>
                <a:latin typeface="Arial"/>
                <a:ea typeface="Arial"/>
              </a:rPr>
              <a:t>ДНК</a:t>
            </a:r>
            <a:r>
              <a:rPr b="1" lang="en-US" sz="51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sr-RS" sz="5100" spc="-1" strike="noStrike">
                <a:solidFill>
                  <a:srgbClr val="0d0d0d"/>
                </a:solidFill>
                <a:latin typeface="Arial"/>
                <a:ea typeface="Arial"/>
              </a:rPr>
              <a:t>и </a:t>
            </a:r>
            <a:r>
              <a:rPr b="1" lang="sr-CS" sz="5100" spc="-1" strike="noStrike">
                <a:solidFill>
                  <a:srgbClr val="0d0d0d"/>
                </a:solidFill>
                <a:latin typeface="Arial"/>
                <a:ea typeface="Arial"/>
              </a:rPr>
              <a:t>РНК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052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кујемо тр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а секвенц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 ДН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Непоновљив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(сингл)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екве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 једну копију-функционалне, одговорне за синтезу полипепти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Умерено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репетитив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x узастопно поновљене секвенц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е, одговорне су за синтезу тРНК и рРН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Високо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репетитивне секвенц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  1.000 000 x узастопно поновље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нису  функционал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олиморфност завојница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НК завојница може да се нађе у више различитих фор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завојниц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део ДНК је и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завојниц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дехидратацијом Б завојниц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завојниц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 изузетно је рет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има шећерно-фосфатну кичму у цик-цак обли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ФОРМЕ ЗАВОЈНИЦА Д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4" descr="A- B- and Z-DNA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Денатурација и ренатурација ДН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гревањем медијума на коме се налази молекул ДНК кидају с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везе и расплићу се ланци-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денатур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епеним хлађењем медијума поново се успостављају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везе и хеликоидна структура –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ренатур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f6fc6"/>
                </a:solidFill>
                <a:latin typeface="Arial"/>
                <a:ea typeface="Arial"/>
              </a:rPr>
              <a:t>Хибридизација</a:t>
            </a:r>
            <a:r>
              <a:rPr b="0" lang="sr-Latn-CS" sz="26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0f6fc6"/>
                </a:solidFill>
                <a:latin typeface="Arial"/>
                <a:ea typeface="Arial"/>
              </a:rPr>
              <a:t>ДНК</a:t>
            </a:r>
            <a:r>
              <a:rPr b="1" lang="en-US" sz="26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f6fc6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а за процену генетичке сличности међу удаљеним врстам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Хибридизација ДНК - утврђивање степена генетичке сличност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29718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Хибридизацијом ДНК човека и миша закључено да је генетичка сличност 13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Хибридизацијом ДНК човека и шимпанзе закључено да је генетичка сличност преко 95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Рибонуклеинска киселина -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5720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разлику од Д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РНК ј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једноланчан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леку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рибонуклеотиду се налази пентозни шећер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рибоз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место тимина заступљена је п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идинска база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урацил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5" descr="dna_versus_rna_reversed"/>
          <p:cNvPicPr/>
          <p:nvPr/>
        </p:nvPicPr>
        <p:blipFill>
          <a:blip r:embed="rId1"/>
          <a:stretch/>
        </p:blipFill>
        <p:spPr>
          <a:xfrm>
            <a:off x="4800600" y="2192400"/>
            <a:ext cx="40989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Врсте РНК молекул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а -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иРНК (mRNK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- Транспортна -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тРН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- Рибозомална -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рРН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а РНК –</a:t>
            </a:r>
            <a:br>
              <a:rPr sz="4500"/>
            </a:b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 иРНК, </a:t>
            </a:r>
            <a:r>
              <a:rPr b="1" lang="sr-Latn-CS" sz="4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mRN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4681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је продукт одређене секвенце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је док не обави своју функциј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а</a:t>
            </a:r>
            <a:r>
              <a:rPr b="0" lang="sr-C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РНК - т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1980720"/>
            <a:ext cx="5638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је продукт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 је 70-90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да веже за себе и пренес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мино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селин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о риб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простору формира структуру која подсећа на детелину 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ли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5" descr="tRNA"/>
          <p:cNvPicPr/>
          <p:nvPr/>
        </p:nvPicPr>
        <p:blipFill>
          <a:blip r:embed="rId1"/>
          <a:stretch/>
        </p:blipFill>
        <p:spPr>
          <a:xfrm>
            <a:off x="5192640" y="1981080"/>
            <a:ext cx="3951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Рибозомална РНК - р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d0d0d"/>
                </a:solidFill>
                <a:latin typeface="Arial"/>
                <a:ea typeface="Arial"/>
              </a:rPr>
              <a:t>Наследна материја</a:t>
            </a:r>
            <a:r>
              <a:rPr b="1" lang="sr-Latn-CS" sz="5000" spc="-1" strike="noStrike">
                <a:solidFill>
                  <a:srgbClr val="0d0d0d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си информацију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повременог мењањ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ауторепродук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код свих организа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код неких виру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I11-21-rRNA2"/>
          <p:cNvPicPr/>
          <p:nvPr/>
        </p:nvPicPr>
        <p:blipFill>
          <a:blip r:embed="rId1"/>
          <a:stretch/>
        </p:blipFill>
        <p:spPr>
          <a:xfrm>
            <a:off x="0" y="1676520"/>
            <a:ext cx="8978760" cy="2968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4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У  већој субјединици рибозома  код еукариота налази се 28с, 5с и 5,8с рРН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У мањој субјединици рибозома  код еукариота  налази се 18с р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05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сону 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ик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1953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веза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DNA"/>
          <p:cNvPicPr/>
          <p:nvPr/>
        </p:nvPicPr>
        <p:blipFill>
          <a:blip r:embed="rId1"/>
          <a:stretch/>
        </p:blipFill>
        <p:spPr>
          <a:xfrm>
            <a:off x="5943600" y="1981080"/>
            <a:ext cx="2095560" cy="4138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d0d0d"/>
                </a:solidFill>
                <a:latin typeface="Arial"/>
                <a:ea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198072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скелет ДНК чине дезоксирибозе 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4 груп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ланца су антипаралел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0" descr="Click for a 3D View of a small double helix of 4 nucleotides or a bigger B helix form"/>
          <p:cNvPicPr/>
          <p:nvPr/>
        </p:nvPicPr>
        <p:blipFill>
          <a:blip r:embed="rId1"/>
          <a:stretch/>
        </p:blipFill>
        <p:spPr>
          <a:xfrm>
            <a:off x="4495680" y="1066680"/>
            <a:ext cx="44053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d0d0d"/>
                </a:solidFill>
                <a:latin typeface="Arial"/>
                <a:ea typeface="Arial"/>
              </a:rPr>
              <a:t>Основна јединица грађе молекула ДНК</a:t>
            </a:r>
            <a:r>
              <a:rPr b="1" lang="en-US" sz="33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sr-CS" sz="3300" spc="-1" strike="noStrike">
                <a:solidFill>
                  <a:srgbClr val="0d0d0d"/>
                </a:solidFill>
                <a:latin typeface="Arial"/>
                <a:ea typeface="Arial"/>
              </a:rPr>
              <a:t>је </a:t>
            </a:r>
            <a:r>
              <a:rPr b="1" lang="sr-CS" sz="3300" spc="-1" strike="noStrike">
                <a:solidFill>
                  <a:srgbClr val="ff0000"/>
                </a:solidFill>
                <a:latin typeface="Arial"/>
                <a:ea typeface="Arial"/>
              </a:rPr>
              <a:t>нуклеотид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 о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ентозног шећера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езоксирибо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осфатне групе </a:t>
            </a:r>
            <a:r>
              <a:rPr b="0" i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Р</a:t>
            </a:r>
            <a:r>
              <a:rPr b="0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i="1" lang="sr-Latn-CS" sz="2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Азотне б</a:t>
            </a:r>
            <a:r>
              <a:rPr b="0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азе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9" descr="nuclei1"/>
          <p:cNvPicPr/>
          <p:nvPr/>
        </p:nvPicPr>
        <p:blipFill>
          <a:blip r:embed="rId1"/>
          <a:stretch/>
        </p:blipFill>
        <p:spPr>
          <a:xfrm>
            <a:off x="5943600" y="914400"/>
            <a:ext cx="2647800" cy="272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nucleotides"/>
          <p:cNvPicPr/>
          <p:nvPr/>
        </p:nvPicPr>
        <p:blipFill>
          <a:blip r:embed="rId2"/>
          <a:stretch/>
        </p:blipFill>
        <p:spPr>
          <a:xfrm>
            <a:off x="5105520" y="4067280"/>
            <a:ext cx="33620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У једном ланцу молекула ДНК нуклеотиди су повезани међусобно  фосфодиестерским веза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рста и редослед нуклеотида одређује примарну структуру молекула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1371600" cy="362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14475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се успостављају изм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ђу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омплементарних ба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ва ланца ДН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мплементарност је утв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н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ргаф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в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 открићем (1951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личина гуанина једнака је количини цитозина, а количина аденина једнака је количини тим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носн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количина пурина једнака је количини пиримидина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аргафово правил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се успостављају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змеђу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 једног и Т другог, односно С једног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 другог ланца молекула ДН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1722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sr-C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Arial"/>
                <a:ea typeface="Arial"/>
              </a:rPr>
              <a:t>Ген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4617b"/>
                </a:solidFill>
                <a:latin typeface="Arial"/>
                <a:ea typeface="Arial"/>
              </a:rPr>
              <a:t>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о секвенце молекула ДНК који има одређено место на хромозому и који је одговоран за синтезу функционалног молекула (протеина или РНК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2852640"/>
            <a:ext cx="86756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распоред и редослед појединих типов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г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број нуклеотидних паров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 је 600-1800 паров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рој гена код човек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20.000-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7:04:23Z</dcterms:created>
  <dc:creator>prodekan 01</dc:creator>
  <dc:description/>
  <dc:language>en-US</dc:language>
  <cp:lastModifiedBy>Korisnik</cp:lastModifiedBy>
  <dcterms:modified xsi:type="dcterms:W3CDTF">2021-01-28T07:24:27Z</dcterms:modified>
  <cp:revision>145</cp:revision>
  <dc:subject/>
  <dc:title>NUKLEINSKE KISELINE</dc:title>
</cp:coreProperties>
</file>